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5.gif" ContentType="image/gif"/>
  <Override PartName="/ppt/media/image14.jpeg" ContentType="image/jpeg"/>
  <Override PartName="/ppt/media/image26.jpeg" ContentType="image/jpeg"/>
  <Override PartName="/ppt/media/image7.gif" ContentType="image/gif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gif" ContentType="image/gif"/>
  <Override PartName="/ppt/media/image16.jpeg" ContentType="image/jpeg"/>
  <Override PartName="/ppt/media/image28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camera.wav" ContentType="audio/x-wav"/>
  <Override PartName="/ppt/media/image21.jpeg" ContentType="image/jpeg"/>
  <Override PartName="/ppt/media/image24.jpeg" ContentType="image/jpeg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105-AA20-4497-867A-FDC9EF37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EC8-0B6F-47DD-935A-8E9FB47E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BFB-0415-4828-9CBA-C0D6D308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D1A-5AD6-4066-85E4-49DBEE7C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4B6A-1480-4412-84D8-4170117E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D852-CA96-4F1F-81BB-6F8F4FD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28D7-9ACE-4CDD-8DFE-33977CA0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6BE7-8A3C-4312-822E-43CAE2D7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17D7-0BD6-4F48-9CA8-E705BEC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9F24-33DE-4AD1-B9BC-F83F9FDA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632-394E-4F76-AC37-945B15D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34F-7968-4258-A816-4539D257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799-C338-4522-B904-5E4EE96C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0467-28E1-4850-B007-8BD85AFA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89EF-45B1-4088-A973-7C17555A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715D-841E-407A-BD69-FB105768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8235-AD8F-4CBD-BD2D-030079D8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096-6642-4EDB-BABD-1CF9B80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2F7-41B0-45D0-936E-1419051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5D2-B04F-4784-A8F7-29C9F3A6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890-7549-4ED3-BB4D-0B7D9AA2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FD7-0918-454E-9818-11E2696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B3B-2DDE-4101-B18D-3C1284D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CF2-3F95-494C-BF10-0B83D26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8E19-25D3-4571-88CD-A57F5611B72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5820-0F4F-4E95-956C-2E1131FCD71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88278303&amp;tn=baiduimagedetail&amp;word=&#21830;&#22330;&amp;in=22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.baidu.com/i?ct=503316480&amp;z=676952252&amp;tn=baiduimagedetail&amp;word=&#39184;&#39302;&amp;in=29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image" Target="../media/image6.jpe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65320" y="60804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DotumChe"/>
                <a:ea typeface="DotumChe"/>
              </a:rPr>
              <a:t>经济生活离不开钱</a:t>
            </a:r>
            <a:r>
              <a:rPr b="1" lang="zh-CN" sz="3600" spc="-1" strike="noStrike">
                <a:solidFill>
                  <a:srgbClr val="0033cc"/>
                </a:solidFill>
                <a:latin typeface="DotumChe"/>
                <a:ea typeface="DotumChe"/>
              </a:rPr>
              <a:t>-------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292640"/>
            <a:ext cx="38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钱是怎么来的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70040" y="479736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GungsuhChe"/>
                <a:ea typeface="GungsuhChe"/>
              </a:rPr>
              <a:t>是历来就有</a:t>
            </a:r>
            <a:r>
              <a:rPr b="1" lang="zh-CN" sz="3200" spc="-1" strike="noStrike">
                <a:solidFill>
                  <a:srgbClr val="0033cc"/>
                </a:solidFill>
                <a:latin typeface="GungsuhChe"/>
                <a:ea typeface="GungsuhChe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5360" y="544500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是天神创造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373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还是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62864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1628640"/>
            <a:ext cx="1944720" cy="295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84280" y="60213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汉鼎简行书"/>
                <a:ea typeface="汉鼎简行书"/>
              </a:rPr>
              <a:t>钱在经济生活中有什么作用</a:t>
            </a:r>
            <a:r>
              <a:rPr b="1" lang="zh-CN" sz="3200" spc="-1" strike="noStrike">
                <a:solidFill>
                  <a:srgbClr val="3333ff"/>
                </a:solidFill>
                <a:latin typeface="汉鼎简行书"/>
                <a:ea typeface="汉鼎简行书"/>
              </a:rPr>
              <a:t>?</a:t>
            </a:r>
            <a:r>
              <a:rPr b="1" lang="zh-CN" sz="3200" spc="-1" strike="noStrike">
                <a:solidFill>
                  <a:srgbClr val="3333ff"/>
                </a:solidFill>
                <a:latin typeface="汉鼎简行书"/>
                <a:ea typeface="汉鼎简行书"/>
              </a:rPr>
              <a:t>有钱能干啥</a:t>
            </a:r>
            <a:r>
              <a:rPr b="1" lang="zh-CN" sz="3200" spc="-1" strike="noStrike">
                <a:solidFill>
                  <a:srgbClr val="3333ff"/>
                </a:solidFill>
                <a:latin typeface="汉鼎简行书"/>
                <a:ea typeface="汉鼎简行书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656400" y="1700280"/>
            <a:ext cx="209232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点此在新窗口浏览图片"/>
          <p:cNvPicPr/>
          <p:nvPr/>
        </p:nvPicPr>
        <p:blipFill>
          <a:blip r:embed="rId7"/>
          <a:stretch/>
        </p:blipFill>
        <p:spPr>
          <a:xfrm>
            <a:off x="6084720" y="0"/>
            <a:ext cx="2857680" cy="1581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4140360" y="1628640"/>
            <a:ext cx="2519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692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货币的含义和本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84464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含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商品中分离出来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固定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充当一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价物的商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860640"/>
            <a:ext cx="37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本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般等价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1480" y="5157720"/>
            <a:ext cx="8642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想一想：货币和一般等价物是不是商品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选择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货币与一般等价物的区别是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货币可以表现其他一切商品的价值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般等价物不可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货币是从商品中分离出来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而一般等价物不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C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货币可以直接和一切商品相交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般等价物则不可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D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货币是固定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般等价物是不固定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7440" y="501336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3348000" cy="6089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484360" y="0"/>
            <a:ext cx="3097440" cy="1960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3333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练一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765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基本</a:t>
            </a:r>
            <a:r>
              <a:rPr b="1" lang="zh-CN" sz="3200" spc="-1" strike="noStrike">
                <a:solidFill>
                  <a:srgbClr val="ff3300"/>
                </a:solidFill>
                <a:latin typeface="迷你简启体"/>
                <a:ea typeface="迷你简启体"/>
              </a:rPr>
              <a:t>职能一：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价值尺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84280"/>
            <a:ext cx="92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含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表现和衡量其他一切商品价值大小的职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72800" y="2133720"/>
            <a:ext cx="43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什么货币具有价值尺度的职能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263700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本身是商品</a:t>
            </a: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本身有价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13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货币本身应具有一定的计量单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镑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一定数量的货币表示的商品价值即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价格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4440" y="5589720"/>
            <a:ext cx="639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货币执行价值尺度的职能只需要观念上的货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而非现实货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46520" y="4437000"/>
            <a:ext cx="52030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价值与价格的关系</a:t>
            </a: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价值是价格的基础</a:t>
            </a: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价格是价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创艺简中圆"/>
                <a:ea typeface="创艺简中圆"/>
              </a:rPr>
              <a:t>的货币表现形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757080" y="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二 、货币的基本职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620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5120" y="60804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基本职能二：流通手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69320" y="1700280"/>
            <a:ext cx="49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含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货币充当商品交换媒介的职能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267984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商品流通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——––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货币为媒介的商品交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公式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商品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---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货币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----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商品  </a:t>
            </a:r>
            <a:r>
              <a:rPr b="1" lang="zh-CN" sz="3200" spc="-1" strike="noStrike">
                <a:solidFill>
                  <a:srgbClr val="ff3300"/>
                </a:solidFill>
                <a:latin typeface="创艺简中圆"/>
                <a:ea typeface="创艺简中圆"/>
              </a:rPr>
              <a:t>(W—G—W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00536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商品流通对商品生产者的启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生产适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质量上乘的商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5516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为流通手段的货币必须是现实中的货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0920" y="1197000"/>
            <a:ext cx="8893080" cy="44809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1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、在商场柜台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一支钢笔标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元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元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货币在执行流通手段的职能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B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货币在执行价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尺度的职能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现实的货币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D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观念中的货币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E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商品的价值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F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商品的价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2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、如果你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元将这支钢笔买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那么你所付的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元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行书简"/>
              </a:rPr>
              <a:t>(     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A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现实的货币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B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观念中的货币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C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货币在执行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通手段的职能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D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经典行书简"/>
              </a:rPr>
              <a:t>货币在执行价值尺度的职能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8160" y="270828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经典行书简"/>
              </a:rPr>
              <a:t>B D F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7800" y="465300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经典行书简"/>
              </a:rPr>
              <a:t>A  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练一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2808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90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、货币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其他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职能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3360" y="6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职能三  贮藏手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职能四  支付手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职能五  世界货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9240" y="4797360"/>
            <a:ext cx="4438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说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基本职能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货币一出现就具有的职能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　　　●其他职能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基本职能中派生出来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3168720" cy="2270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0" t="0" r="128" b="313"/>
          <a:stretch/>
        </p:blipFill>
        <p:spPr>
          <a:xfrm>
            <a:off x="5076720" y="1268280"/>
            <a:ext cx="3024360" cy="2144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51280" y="2421000"/>
            <a:ext cx="1066680" cy="30456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4679640" cy="2316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3500280"/>
            <a:ext cx="287280" cy="649440"/>
          </a:xfrm>
          <a:prstGeom prst="downArrow">
            <a:avLst>
              <a:gd name="adj1" fmla="val 50000"/>
              <a:gd name="adj2" fmla="val 56516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40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三﹑纸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5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产生过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292640"/>
            <a:ext cx="3384720" cy="1582560"/>
          </a:xfrm>
          <a:prstGeom prst="wedgeEllipseCallout">
            <a:avLst>
              <a:gd name="adj1" fmla="val 92212"/>
              <a:gd name="adj2" fmla="val 35555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迷你简启体"/>
                <a:ea typeface="迷你简启体"/>
              </a:rPr>
              <a:t>纸币的优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68960" y="56844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纸币的含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17160" y="162864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由国家（或某些地区）发行强制使用的货币符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75080" y="3170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3213000"/>
            <a:ext cx="831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</a:rPr>
              <a:t>想一想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纸币和货币有什么区别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</a:rPr>
              <a:t>　　 </a:t>
            </a:r>
            <a:r>
              <a:rPr b="1" lang="zh-CN" sz="2800" spc="-1" strike="noStrike">
                <a:solidFill>
                  <a:srgbClr val="0033cc"/>
                </a:solidFill>
                <a:latin typeface="华文细黑"/>
              </a:rPr>
              <a:t>纸币是价值符号，其本身的价值可以                            忽略不计，只代表一定数量的价值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细黑"/>
              </a:rPr>
              <a:t>　　 货币是商品，其本身具有内在的价值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684360" y="1844640"/>
            <a:ext cx="7559280" cy="1144800"/>
            <a:chOff x="684360" y="1844640"/>
            <a:chExt cx="7559280" cy="1144800"/>
          </a:xfrm>
        </p:grpSpPr>
        <p:sp>
          <p:nvSpPr>
            <p:cNvPr id="231" name=""/>
            <p:cNvSpPr/>
            <p:nvPr/>
          </p:nvSpPr>
          <p:spPr>
            <a:xfrm>
              <a:off x="5395320" y="1844640"/>
              <a:ext cx="284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商品价格总额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95320" y="2468880"/>
              <a:ext cx="284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货币流通次数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360" y="2156760"/>
              <a:ext cx="383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流通中所需的货币量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89680" y="2052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</a:rPr>
                <a:t>＝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66640" y="2468880"/>
              <a:ext cx="29577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68960" y="2080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纸币的发行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61040" y="981000"/>
            <a:ext cx="403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必须以流通中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实际所需要的货币量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为限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3716280"/>
            <a:ext cx="813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算一算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</a:rPr>
              <a:t>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假设某国一定时期内商品价格总额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0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万元，货币流通次数是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次，请问该发行多少货币量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若发行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万元，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元纸币相当于多少元的货币购买力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1066680" cy="2743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33520" y="228600"/>
            <a:ext cx="8534160" cy="28494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纸币是由国家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或某些地区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发行的、强制使用的符号，这就是说       ①在一定时期内发行多少纸币是由国家决定的 ②纸币的面值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(1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元、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元、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100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元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是由国家决定的 ③每种面值的纸币各发行多少是由国家决定的 ④每种面值的纸币各代表多少价值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即纸币的购买力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是由国家决定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A.①②③ B.②③④ C.①③  D.②③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9600" y="562284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中宋"/>
                <a:ea typeface="华文中宋"/>
              </a:rPr>
              <a:t>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6320" y="0"/>
            <a:ext cx="2663640" cy="1081080"/>
            <a:chOff x="76320" y="0"/>
            <a:chExt cx="2663640" cy="1081080"/>
          </a:xfrm>
        </p:grpSpPr>
        <p:sp>
          <p:nvSpPr>
            <p:cNvPr id="243" name=""/>
            <p:cNvSpPr/>
            <p:nvPr/>
          </p:nvSpPr>
          <p:spPr>
            <a:xfrm>
              <a:off x="76320" y="0"/>
              <a:ext cx="2663640" cy="108108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600" y="381240"/>
              <a:ext cx="2160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华文琥珀"/>
                </a:rPr>
                <a:t>你会做吗？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4321080" cy="2087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62680" cy="210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449568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716360" y="3429000"/>
            <a:ext cx="4176720" cy="216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189000"/>
            <a:ext cx="77724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黑体"/>
                <a:ea typeface="黑体"/>
              </a:rPr>
              <a:t>第一课  神奇的货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997360"/>
            <a:ext cx="8136000" cy="1079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Webdings"/>
                <a:ea typeface="Webdings"/>
              </a:rPr>
              <a:t>揭开货币的神秘面纱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26920" y="0"/>
            <a:ext cx="11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思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1360" y="1413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国家有权发行纸币，但能不能任意发行，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308720" y="2997360"/>
            <a:ext cx="792360" cy="693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220500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纸币发行太多，会引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价上涨，纸币贬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影响人民的生活和社会经济秩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860640"/>
            <a:ext cx="9144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98520" y="350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通货膨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149720"/>
            <a:ext cx="86756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纸币发行太少，使商品销售困难，阻碍商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流通</a:t>
            </a:r>
            <a:r>
              <a:rPr b="0" lang="zh-CN" sz="2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5805360"/>
            <a:ext cx="9907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76760" y="5516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通货紧缩（需求不足，物价下跌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268360" y="-243000"/>
            <a:ext cx="2519640" cy="20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431800" y="43164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圆叠黑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经典圆叠黑"/>
              </a:rPr>
              <a:t>、通货膨胀与通货紧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119700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通货膨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经济运行中全面持续的物价上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现象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成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纸币发行过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本币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值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投资过热等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通货紧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经济运行中全面持续的物价下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现象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成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经典行书简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产业结构不合理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居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对未来收入信心不足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出口困难等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经典行书简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4160" y="43848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电子货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9440" y="5248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属货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5589720"/>
            <a:ext cx="927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530064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纸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5589720"/>
            <a:ext cx="9367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9440" y="5248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电子货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56536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二、货币的基本职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94172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三、纸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1640" y="620640"/>
            <a:ext cx="287640" cy="1152720"/>
          </a:xfrm>
          <a:custGeom>
            <a:avLst/>
            <a:gdLst>
              <a:gd name="textAreaLeft" fmla="*/ 183960 w 287640"/>
              <a:gd name="textAreaRight" fmla="*/ 288000 w 287640"/>
              <a:gd name="textAreaTop" fmla="*/ 25920 h 1152720"/>
              <a:gd name="textAreaBottom" fmla="*/ 112680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2"/>
                  <a:pt x="10800" y="1563"/>
                </a:cubicBezTo>
                <a:lnTo>
                  <a:pt x="10800" y="9237"/>
                </a:lnTo>
                <a:cubicBezTo>
                  <a:pt x="10800" y="10019"/>
                  <a:pt x="5400" y="10800"/>
                  <a:pt x="0" y="10800"/>
                </a:cubicBezTo>
                <a:cubicBezTo>
                  <a:pt x="5400" y="10800"/>
                  <a:pt x="10800" y="11582"/>
                  <a:pt x="10800" y="12363"/>
                </a:cubicBezTo>
                <a:lnTo>
                  <a:pt x="10800" y="20037"/>
                </a:lnTo>
                <a:cubicBezTo>
                  <a:pt x="10800" y="208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4221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产生过程：（优点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515772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发行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221000"/>
            <a:ext cx="23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  含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" y="0"/>
            <a:ext cx="1728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ahoma"/>
                <a:ea typeface="黑体"/>
              </a:rPr>
              <a:t>小结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9079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一、货币的本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515772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通货膨胀和通货紧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68360" y="5877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电子货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0920" y="4508640"/>
            <a:ext cx="289080" cy="1655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37440 h 1655640"/>
              <a:gd name="textAreaBottom" fmla="*/ 16182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2"/>
                  <a:pt x="10800" y="1563"/>
                </a:cubicBezTo>
                <a:lnTo>
                  <a:pt x="10800" y="9237"/>
                </a:lnTo>
                <a:cubicBezTo>
                  <a:pt x="10800" y="10019"/>
                  <a:pt x="5400" y="10800"/>
                  <a:pt x="0" y="10800"/>
                </a:cubicBezTo>
                <a:cubicBezTo>
                  <a:pt x="5400" y="10800"/>
                  <a:pt x="10800" y="11582"/>
                  <a:pt x="10800" y="12363"/>
                </a:cubicBezTo>
                <a:lnTo>
                  <a:pt x="10800" y="20037"/>
                </a:lnTo>
                <a:cubicBezTo>
                  <a:pt x="10800" y="208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7628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商品：（含义、特点、基本属性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7640" y="1341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货币的产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80000" y="1341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货币的含义和本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198900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价值尺度：（①②③④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708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流通手段：（①②③④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3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、其他职能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133720"/>
            <a:ext cx="288720" cy="1439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2400 h 1439640"/>
              <a:gd name="textAreaBottom" fmla="*/ 14072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2"/>
                  <a:pt x="10800" y="1563"/>
                </a:cubicBezTo>
                <a:lnTo>
                  <a:pt x="10800" y="9237"/>
                </a:lnTo>
                <a:cubicBezTo>
                  <a:pt x="10800" y="10019"/>
                  <a:pt x="5400" y="10800"/>
                  <a:pt x="0" y="10800"/>
                </a:cubicBezTo>
                <a:cubicBezTo>
                  <a:pt x="5400" y="10800"/>
                  <a:pt x="10800" y="11582"/>
                  <a:pt x="10800" y="12363"/>
                </a:cubicBezTo>
                <a:lnTo>
                  <a:pt x="10800" y="20037"/>
                </a:lnTo>
                <a:cubicBezTo>
                  <a:pt x="10800" y="208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45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一﹑货币的本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 商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①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含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于交换的劳动产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特征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是劳动产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用于交换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3284640"/>
            <a:ext cx="216000" cy="1490400"/>
          </a:xfrm>
          <a:custGeom>
            <a:avLst/>
            <a:gdLst>
              <a:gd name="textAreaLeft" fmla="*/ 0 w 216000"/>
              <a:gd name="textAreaRight" fmla="*/ 78120 w 216000"/>
              <a:gd name="textAreaTop" fmla="*/ 38520 h 1490400"/>
              <a:gd name="textAreaBottom" fmla="*/ 1451880 h 14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3573360"/>
            <a:ext cx="34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二者缺一不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629400" y="2286000"/>
            <a:ext cx="2133720" cy="11912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雪山上待售的氧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3526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练一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286000"/>
            <a:ext cx="1676520" cy="11912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自然界的空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86000"/>
            <a:ext cx="2057400" cy="11912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母亲为你织的毛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562640"/>
            <a:ext cx="1752480" cy="11912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你在使用的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562640"/>
            <a:ext cx="2133720" cy="11912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朋友送的生日礼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495680"/>
            <a:ext cx="1752840" cy="11912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回收的啤酒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1143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你认为下列哪些是商品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5562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762120" cy="685800"/>
          </a:xfrm>
          <a:prstGeom prst="smileyFace">
            <a:avLst>
              <a:gd name="adj" fmla="val -4652"/>
            </a:avLst>
          </a:prstGeom>
          <a:solidFill>
            <a:srgbClr val="3399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352680"/>
            <a:ext cx="762120" cy="685800"/>
          </a:xfrm>
          <a:prstGeom prst="smileyFace">
            <a:avLst>
              <a:gd name="adj" fmla="val -4652"/>
            </a:avLst>
          </a:prstGeom>
          <a:solidFill>
            <a:srgbClr val="3399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5638680"/>
            <a:ext cx="762120" cy="685800"/>
          </a:xfrm>
          <a:prstGeom prst="smileyFace">
            <a:avLst>
              <a:gd name="adj" fmla="val -4652"/>
            </a:avLst>
          </a:prstGeom>
          <a:solidFill>
            <a:srgbClr val="3399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5638680"/>
            <a:ext cx="762120" cy="685800"/>
          </a:xfrm>
          <a:prstGeom prst="smileyFace">
            <a:avLst>
              <a:gd name="adj" fmla="val -4652"/>
            </a:avLst>
          </a:prstGeom>
          <a:solidFill>
            <a:srgbClr val="33996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36180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456800" y="2133720"/>
            <a:ext cx="59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商品、劳动产品、物品的关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11280" y="3141720"/>
            <a:ext cx="3276720" cy="2971800"/>
            <a:chOff x="2411280" y="3141720"/>
            <a:chExt cx="3276720" cy="2971800"/>
          </a:xfrm>
        </p:grpSpPr>
        <p:sp>
          <p:nvSpPr>
            <p:cNvPr id="121" name=""/>
            <p:cNvSpPr/>
            <p:nvPr/>
          </p:nvSpPr>
          <p:spPr>
            <a:xfrm>
              <a:off x="2411280" y="3141720"/>
              <a:ext cx="3276720" cy="2971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6880" y="333252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物品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27280" y="3860640"/>
            <a:ext cx="2449440" cy="2286000"/>
            <a:chOff x="2627280" y="3860640"/>
            <a:chExt cx="2449440" cy="2286000"/>
          </a:xfrm>
        </p:grpSpPr>
        <p:sp>
          <p:nvSpPr>
            <p:cNvPr id="124" name=""/>
            <p:cNvSpPr/>
            <p:nvPr/>
          </p:nvSpPr>
          <p:spPr>
            <a:xfrm>
              <a:off x="2627280" y="3860640"/>
              <a:ext cx="2449440" cy="2286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5600" y="4172040"/>
              <a:ext cx="11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劳动产品 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19640" y="4869000"/>
            <a:ext cx="1218960" cy="1295280"/>
            <a:chOff x="3419640" y="4869000"/>
            <a:chExt cx="1218960" cy="1295280"/>
          </a:xfrm>
        </p:grpSpPr>
        <p:sp>
          <p:nvSpPr>
            <p:cNvPr id="127" name=""/>
            <p:cNvSpPr/>
            <p:nvPr/>
          </p:nvSpPr>
          <p:spPr>
            <a:xfrm>
              <a:off x="3419640" y="4869000"/>
              <a:ext cx="1218960" cy="12952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5600" y="5173560"/>
              <a:ext cx="10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商品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44480" y="608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思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4124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一﹑货币的本质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 商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含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于交换的劳动产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特征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是劳动产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用于交换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213000"/>
            <a:ext cx="71640" cy="987480"/>
          </a:xfrm>
          <a:custGeom>
            <a:avLst/>
            <a:gdLst>
              <a:gd name="textAreaLeft" fmla="*/ 0 w 71640"/>
              <a:gd name="textAreaRight" fmla="*/ 25920 w 7164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328464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二者缺一不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637160"/>
            <a:ext cx="660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个基本属性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使用价值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和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价值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(P5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自然属性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社会属性或本质属性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971640" y="2565360"/>
            <a:ext cx="936360" cy="1303200"/>
            <a:chOff x="971640" y="2565360"/>
            <a:chExt cx="936360" cy="13032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971640" y="2565360"/>
              <a:ext cx="93636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116000" y="3500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牛奶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887120" y="1197000"/>
            <a:ext cx="2613600" cy="1385280"/>
            <a:chOff x="1887120" y="1197000"/>
            <a:chExt cx="2613600" cy="1385280"/>
          </a:xfrm>
        </p:grpSpPr>
        <p:grpSp>
          <p:nvGrpSpPr>
            <p:cNvPr id="139" name=""/>
            <p:cNvGrpSpPr/>
            <p:nvPr/>
          </p:nvGrpSpPr>
          <p:grpSpPr>
            <a:xfrm>
              <a:off x="3132000" y="1197000"/>
              <a:ext cx="1368720" cy="1335600"/>
              <a:chOff x="3132000" y="1197000"/>
              <a:chExt cx="1368720" cy="1335600"/>
            </a:xfrm>
          </p:grpSpPr>
          <p:pic>
            <p:nvPicPr>
              <p:cNvPr id="1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2000" y="1197000"/>
                <a:ext cx="136872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3419640" y="2133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33cc"/>
                    </a:solidFill>
                    <a:latin typeface="Arial"/>
                    <a:ea typeface="黑体"/>
                  </a:rPr>
                  <a:t>食盐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rot="20049600">
              <a:off x="1908000" y="1989000"/>
              <a:ext cx="1151280" cy="360360"/>
            </a:xfrm>
            <a:custGeom>
              <a:avLst/>
              <a:gdLst>
                <a:gd name="textAreaLeft" fmla="*/ 179640 w 1151280"/>
                <a:gd name="textAreaRight" fmla="*/ 1007640 w 11512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617720" y="1628640"/>
            <a:ext cx="2222640" cy="1911960"/>
            <a:chOff x="4617720" y="1628640"/>
            <a:chExt cx="2222640" cy="1911960"/>
          </a:xfrm>
        </p:grpSpPr>
        <p:grpSp>
          <p:nvGrpSpPr>
            <p:cNvPr id="144" name=""/>
            <p:cNvGrpSpPr/>
            <p:nvPr/>
          </p:nvGrpSpPr>
          <p:grpSpPr>
            <a:xfrm>
              <a:off x="5867280" y="1628640"/>
              <a:ext cx="973080" cy="1911960"/>
              <a:chOff x="5867280" y="1628640"/>
              <a:chExt cx="973080" cy="1911960"/>
            </a:xfrm>
          </p:grpSpPr>
          <p:pic>
            <p:nvPicPr>
              <p:cNvPr id="1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1628640"/>
                <a:ext cx="97308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6012000" y="314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33cc"/>
                    </a:solidFill>
                    <a:latin typeface="Arial"/>
                    <a:ea typeface="黑体"/>
                  </a:rPr>
                  <a:t>矛头</a:t>
                </a:r>
                <a:endParaRPr b="0" lang="en-US" sz="2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329000">
              <a:off x="4642920" y="1915920"/>
              <a:ext cx="1150920" cy="36036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64000" y="3558240"/>
            <a:ext cx="1337040" cy="2851560"/>
            <a:chOff x="5364000" y="3558240"/>
            <a:chExt cx="1337040" cy="2851560"/>
          </a:xfrm>
        </p:grpSpPr>
        <p:grpSp>
          <p:nvGrpSpPr>
            <p:cNvPr id="149" name=""/>
            <p:cNvGrpSpPr/>
            <p:nvPr/>
          </p:nvGrpSpPr>
          <p:grpSpPr>
            <a:xfrm>
              <a:off x="5364000" y="4653000"/>
              <a:ext cx="1008000" cy="1756800"/>
              <a:chOff x="5364000" y="4653000"/>
              <a:chExt cx="1008000" cy="1756800"/>
            </a:xfrm>
          </p:grpSpPr>
          <p:pic>
            <p:nvPicPr>
              <p:cNvPr id="15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64000" y="4653000"/>
                <a:ext cx="1000080" cy="13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435280" y="5950080"/>
                <a:ext cx="93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咖啡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rot="7140000">
              <a:off x="5688720" y="3968280"/>
              <a:ext cx="1150920" cy="36036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95640" y="4797360"/>
            <a:ext cx="2590200" cy="1612440"/>
            <a:chOff x="2195640" y="4797360"/>
            <a:chExt cx="2590200" cy="1612440"/>
          </a:xfrm>
        </p:grpSpPr>
        <p:grpSp>
          <p:nvGrpSpPr>
            <p:cNvPr id="154" name=""/>
            <p:cNvGrpSpPr/>
            <p:nvPr/>
          </p:nvGrpSpPr>
          <p:grpSpPr>
            <a:xfrm>
              <a:off x="2195640" y="4797360"/>
              <a:ext cx="1150920" cy="1612440"/>
              <a:chOff x="2195640" y="4797360"/>
              <a:chExt cx="1150920" cy="1612440"/>
            </a:xfrm>
          </p:grpSpPr>
          <p:pic>
            <p:nvPicPr>
              <p:cNvPr id="1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95640" y="4797360"/>
                <a:ext cx="115092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2338560" y="5950080"/>
                <a:ext cx="93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珍珠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rot="10800000">
              <a:off x="3634920" y="5084280"/>
              <a:ext cx="1150920" cy="360360"/>
            </a:xfrm>
            <a:custGeom>
              <a:avLst/>
              <a:gdLst>
                <a:gd name="textAreaLeft" fmla="*/ 179640 w 1150920"/>
                <a:gd name="textAreaRight" fmla="*/ 1007280 w 115092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rot="14529000">
            <a:off x="1439640" y="3967920"/>
            <a:ext cx="1150920" cy="36036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1440" y="5516640"/>
            <a:ext cx="1150920" cy="36036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78800" y="836640"/>
            <a:ext cx="1033560" cy="511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十九世纪非洲某集贸市场情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997360"/>
            <a:ext cx="273528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物物交换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33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课堂探究（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P4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请讨论教材三小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7164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商品与货币不是同时产生的，货币是商品交换发展到一定阶段的产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3068640"/>
            <a:ext cx="1067040" cy="1068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物物交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3068640"/>
            <a:ext cx="3200400" cy="581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等价物为媒介的商品交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068640"/>
            <a:ext cx="2743200" cy="1068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货币为媒介的商品交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3357720"/>
            <a:ext cx="762120" cy="304560"/>
          </a:xfrm>
          <a:custGeom>
            <a:avLst/>
            <a:gdLst>
              <a:gd name="textAreaLeft" fmla="*/ 95040 w 762120"/>
              <a:gd name="textAreaRight" fmla="*/ 667080 w 7621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3429000"/>
            <a:ext cx="762120" cy="228600"/>
          </a:xfrm>
          <a:custGeom>
            <a:avLst/>
            <a:gdLst>
              <a:gd name="textAreaLeft" fmla="*/ 95040 w 762120"/>
              <a:gd name="textAreaRight" fmla="*/ 667080 w 7621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907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货币的产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60600" y="4898880"/>
            <a:ext cx="3175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说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一般等价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———能与其他一切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商品相交换的商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549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华文行楷"/>
              </a:rPr>
              <a:t>在历史上，充当一般等价物的东西很多，比如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1341360"/>
            <a:ext cx="2233440" cy="2073960"/>
            <a:chOff x="0" y="1341360"/>
            <a:chExt cx="2233440" cy="207396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0" y="1341360"/>
              <a:ext cx="223344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0120" y="2833920"/>
              <a:ext cx="104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牲畜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195640" y="1341360"/>
            <a:ext cx="2590560" cy="2127960"/>
            <a:chOff x="2195640" y="1341360"/>
            <a:chExt cx="2590560" cy="21279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2195640" y="1341360"/>
              <a:ext cx="259056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945520" y="2887920"/>
              <a:ext cx="102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布匹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59280" y="1341360"/>
            <a:ext cx="2376720" cy="2127960"/>
            <a:chOff x="4859280" y="1341360"/>
            <a:chExt cx="2376720" cy="2127960"/>
          </a:xfrm>
        </p:grpSpPr>
        <p:pic>
          <p:nvPicPr>
            <p:cNvPr id="179" name="" descr=""/>
            <p:cNvPicPr/>
            <p:nvPr/>
          </p:nvPicPr>
          <p:blipFill>
            <a:blip r:embed="rId4"/>
            <a:stretch/>
          </p:blipFill>
          <p:spPr>
            <a:xfrm>
              <a:off x="4859280" y="1341360"/>
              <a:ext cx="2376720" cy="15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606280" y="2887920"/>
              <a:ext cx="101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贝壳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236000" y="1268280"/>
            <a:ext cx="1908000" cy="2092680"/>
            <a:chOff x="7236000" y="1268280"/>
            <a:chExt cx="1908000" cy="2092680"/>
          </a:xfrm>
        </p:grpSpPr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7236000" y="1268280"/>
              <a:ext cx="1908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740720" y="2779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金银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0920" y="2997360"/>
            <a:ext cx="8424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什么金银会固定充当一般等价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而不是其他的商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是由金银的自身特点决定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: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体积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价值大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易于分割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不易磨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便于保管和携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80800" y="5661000"/>
            <a:ext cx="47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金银天然不是货币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货币天然是金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6:11:43Z</dcterms:created>
  <dc:creator>user</dc:creator>
  <dc:description/>
  <dc:language>en-US</dc:language>
  <cp:lastModifiedBy>软件仓库</cp:lastModifiedBy>
  <dcterms:modified xsi:type="dcterms:W3CDTF">2008-11-03T12:08:47Z</dcterms:modified>
  <cp:revision>54</cp:revision>
  <dc:subject/>
  <dc:title>第一课  神奇的货币</dc:title>
</cp:coreProperties>
</file>